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E91-73AA-40AD-BFB8-9C05C657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F7D-E1F5-4AAD-9A4D-3462A807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592-4031-441B-A72A-FD47D72A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2AF-79B4-40CA-BAB0-55ED65CE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87FD-D97E-4DDD-8381-0CAB637F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D29-7DAD-4B4E-8C08-C4E1CD81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867-ACBB-41A5-BDA2-65A5F16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A9F-1970-4809-8145-B533FF4F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03A-328C-441F-B1E2-A663044D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FEC-AB35-4A5C-A1C0-470B8219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C89-E3F5-4A25-BAC9-F78A2876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947-F71D-4C82-B975-013106AC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B812-5167-4201-BD98-6A3DB0EB2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y Jasmine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47920" y="0"/>
            <a:ext cx="4800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ARACK OBAMA</a:t>
            </a:r>
            <a:endParaRPr b="0" lang="en-US" sz="4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6b892"/>
                </a:solidFill>
                <a:latin typeface="French Script MT"/>
              </a:rPr>
              <a:t>Bio On Oba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ench Script MT"/>
              </a:rPr>
              <a:t>Barack Obama was born to a white American mother, Ann Dunham, and a black Kenyan father, Barack Obama, Sr., who were both young college students at the University of Hawa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ench Script MT"/>
              </a:rPr>
              <a:t>Obama attended Columbia University, but found New York's racial tension inescap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French Script MT"/>
              </a:rPr>
              <a:t>He then attended Harvard Law School, and in 1990 became the first African-American editor of the Harvard Law Review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4724280"/>
            <a:ext cx="2667240" cy="190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50292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French Script MT"/>
              </a:rPr>
              <a:t>More Littl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While Obama was in Harvard Univ., he meet Michelle Ob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Both of the two love birds got married around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In 1998, they had their first child Malia Ob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Then in 2001, they had their second child Sasha Ob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urlz MT"/>
              </a:rPr>
              <a:t>And they are both the first African-American angels in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Rosewood Std Regular"/>
              </a:rPr>
              <a:t>OBAMA 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797200" cy="4343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124080" y="1523880"/>
            <a:ext cx="2214720" cy="3505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80880" y="3124080"/>
            <a:ext cx="2371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Rosewood Std Regular"/>
              </a:rPr>
              <a:t>A Picture Of obama and McC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French Script MT"/>
              </a:rPr>
              <a:t>First African-American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28920" y="1143000"/>
            <a:ext cx="43527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27:10Z</dcterms:created>
  <dc:creator>004student</dc:creator>
  <dc:description/>
  <dc:language>en-US</dc:language>
  <cp:lastModifiedBy>004student</cp:lastModifiedBy>
  <dcterms:modified xsi:type="dcterms:W3CDTF">2008-11-20T17:12:08Z</dcterms:modified>
  <cp:revision>2</cp:revision>
  <dc:subject/>
  <dc:title>Slide 1</dc:title>
</cp:coreProperties>
</file>